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00262-CC88-44AF-8039-6D758C6D1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D194-588A-4720-8BAC-23CEF0B54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CBD65-37E3-40E2-9922-38448DC13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92CE4-D39F-475D-BD36-1B9F1C34F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9A45F-3902-48F1-9104-B456E3FC2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51C9-6E1B-46F9-BB22-50F0E89FB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EDE5F-7023-4CB4-AF24-9F520D40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38B25-4456-4B7D-9ADC-0D04BC6A0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BA7BC-4C4D-45EC-BB64-4E01C6C02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DF236-DCA6-4DC9-817D-99D3B9E28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8F6B5-2555-4E4F-9D03-BEF14D58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7FE2-8512-4C19-9381-39D97DCF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85B83-65AE-4877-8A3D-1AF249672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18123-8732-44F2-8BC7-1F112875E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0EDB6-70A2-4C8F-B1DB-2996147A9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85E09-4F9B-4EEF-9977-820C82B6E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05669-4FD1-4079-B427-F48372E76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6D922-2DFB-420F-8361-9C7171EF1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F8989-7A00-44E9-8EA7-1A57D1CD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7657-09B6-4BAD-AECD-1F57ADE17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953ED-9790-48CB-B639-3189BAF2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4EE8-53AB-4156-BF70-9D2888D26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4F5A-572C-4E16-AB63-C09F2052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2AC9-0D11-491D-A6C7-D05E5B1C3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7F61-091C-4E7B-A463-32840519C22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FF6E-958E-475E-8C87-C1917E0BD42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000000"/>
                </a:solidFill>
                <a:latin typeface="Arial"/>
              </a:rPr>
              <a:t>ΣΤΡΕΣ-</a:t>
            </a:r>
            <a:br>
              <a:rPr sz="5400"/>
            </a:br>
            <a:r>
              <a:rPr b="0" lang="el-GR" sz="5400" spc="-1" strike="noStrike">
                <a:solidFill>
                  <a:srgbClr val="000000"/>
                </a:solidFill>
                <a:latin typeface="Arial"/>
              </a:rPr>
              <a:t>ΕΡΓΑΣΙΑΚΟ ΣΤΡΕΣ</a:t>
            </a:r>
            <a:endParaRPr b="0" lang="en-US" sz="5400" spc="-1" strike="noStrike">
              <a:solidFill>
                <a:srgbClr val="8c0039"/>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Ι. ΦΡΑΓΚΟΥΛ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θηγητής ΑΣΠΑΙΤ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2/3</a:t>
            </a: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ησιμοποιήστε τεχνικές χαλάρωσης και διαλογισμού, που βοηθούν στο να μειωθεί η ένταση στους μύες και βοηθούν την αναπνοή να επανέλθει στον φυσιολογικό της ρυθμό.</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Μην αφήνετε μισοτελειωμένες εργασίες.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3/3</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φήστε χρόνο στο πρόγραμμα σας για κοινωνική και προσωπική ζωή ή έστω για ξεκούραση.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υστημική Θεωρία</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ή θέση της Συστημικής Θεωρίας είναι η άποψη ότι </a:t>
            </a:r>
            <a:r>
              <a:rPr b="1" lang="el-GR" sz="2800" spc="-1" strike="noStrike">
                <a:solidFill>
                  <a:srgbClr val="000000"/>
                </a:solidFill>
                <a:latin typeface="Arial"/>
              </a:rPr>
              <a:t>το όλο είναι διαφορετικό από το άθροισμα των μερών του. </a:t>
            </a:r>
            <a:r>
              <a:rPr b="0" lang="el-GR" sz="2800" spc="-1" strike="noStrike">
                <a:solidFill>
                  <a:srgbClr val="000000"/>
                </a:solidFill>
                <a:latin typeface="Arial"/>
              </a:rPr>
              <a:t>Αυτό συμβαίνει, γιατί ένα σύστημα περιλαμβάνει εκτός από το σύνολο των ενοτήτων του και μεταξύ των ενοτήτων σχέσεις. Με τον τρόπο αυτό, το ΟΛΟ είναι διαφορετικό από το σύνολο των επιμέρους στοιχείων του.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1/5</a:t>
            </a:r>
            <a:endParaRPr b="0" lang="en-US" sz="36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αρνητικών παραγόντων (παραγόντων που συνθέτουν την προβληματική κατάσταση)</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 των συνθηκών κάτω από τις οποίες εκδηλώνεται η αγχογόνος συμπεριφορά</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των συνεπειών που προκύπτουν από την αγχογόνο συμπεριφορά</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2/5</a:t>
            </a: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των δικών μας αντιδράσεων</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 συνεργασία με συναδέλφους</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συναδέλφων</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3/5</a:t>
            </a: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συνεργασία με προϊσταμένο/ ους</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προϊσταμένων</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4/5</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ζήτηση- συνεργασία με άλλους εμπλεκόμενους στη στρεσογόνο κατάσταση ( πχ. συναδέλφους, στελέχη επιχείρησης κτλ)</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ισμός μικρών επιτεύξιμων στόχων-  ενεργειών για την αντιμετώπιση της στρεσογόνου κατάστασης</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όρφωση κατάλληλου επικοινωνιακού κλίματος στο χώρο της εργασία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5/5</a:t>
            </a:r>
            <a:endParaRPr b="0" lang="en-US" sz="3600" spc="-1" strike="noStrike">
              <a:solidFill>
                <a:srgbClr val="8c0039"/>
              </a:solidFill>
              <a:latin typeface="Arial"/>
            </a:endParaRPr>
          </a:p>
        </p:txBody>
      </p:sp>
      <p:sp>
        <p:nvSpPr>
          <p:cNvPr id="1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λόγηση – συνεχή αποτίμηση  διαδικασίας άμβλυνσης του εργασιακού στρε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εχής  μεταπαρακολούθηση αξιοποιώντας το σχήμα (ενεργώ – παρατηρώ-   στοχάζομαι- αναθεωρώ)</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τρες</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έξη «στρες» αποτελεί τον αγγλικό όρο (stress) αυτού που ονομάζουμε στα ελληνικά «ψυχοκοινωνική πίεση». Αφορά ακριβώς στο αίσθημα που έχουμε όταν δεχόμαστε πιέσεις είτε από το εξωτερικό περιβάλλον (π.χ. οικογένεια, σχέσεις, εργασία, κοινωνικό περίγυρο) είτε από τον εαυτό μας (προσδοκίες, απαιτήσεις κτλ.) και στον τρόπο με τον οποίο αντιδρούμε όταν δεχόμαστε αυτές τις πιέσεις.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ΕΙΔΗ Τ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Έντον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Επεισοδιακό οξύ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Χρόνι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3722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ΣΥΜΠΤΩΜΑΤΑ ΤΟΥ ΕΝΤΟΝ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ναισθ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κέψ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μπεριφορά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ωματικ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στρες</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ροσδοκ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επιθυμ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νθήκες του περιβάλλοντος, όπως αυτές γίνονται αντιληπτέ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λλιπής κοινωνική υποστήριξη,</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ρνητικός τρόπος με τον οποίο αντιμετωπίζουμε τα πράγματα, </a:t>
            </a:r>
            <a:br>
              <a:rPr sz="2400"/>
            </a:br>
            <a:r>
              <a:rPr b="0" lang="el-GR" sz="2400" spc="-1" strike="noStrike">
                <a:solidFill>
                  <a:srgbClr val="000000"/>
                </a:solidFill>
                <a:latin typeface="Arial"/>
              </a:rPr>
              <a:t>ορισμένες αρνητικές συνήθειες (π.χ., η τελειομανία), </a:t>
            </a:r>
            <a:br>
              <a:rPr sz="2400"/>
            </a:b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της προσωπικότητας και της ιδιοσυγκρασίας,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ρεις συμβουλές για την αντιμετώπιση του Στρες</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αλάρωση από ένταση</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ιμετώπιση αγχογόνου συναισθήματο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δυσάρεστων σκέψεων</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ύγχρονη νόσος των στελεχ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o στρες είναι ίσως η πιο συχνή λέξη στην καθημερινότητα μας. Σε πολλές έρευνες και συνεντεύξεις με Έλληνες εργαζόμενους, είναι σαφές ότι η εντατικοποίηση της σύγχρονης εργασίας και οι αυξημένες απαιτήσεις των εργοδοτών ή -καλύτερα- της απρόσωπης εταιρείας βλάπτουν σοβαρά την υγεία. </a:t>
            </a:r>
            <a:endParaRPr b="0" lang="en-US" sz="2800" spc="-1" strike="noStrike">
              <a:solidFill>
                <a:srgbClr val="000000"/>
              </a:solidFill>
              <a:latin typeface="Arial"/>
            </a:endParaRPr>
          </a:p>
        </p:txBody>
      </p:sp>
      <p:sp>
        <p:nvSpPr>
          <p:cNvPr id="100" name="PlaceHolder 2"/>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Εργασιακό στρες</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εργασιακό στρες</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οι εργαζόμενοι δεν έχουν ξεκάθαρη εικόνα των αρμοδιοτήτων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Υψηλό βαθμό ευθυνώ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δεν συμμετέχουν οι εργαζόμενοι στη  λήψη αποφάσεω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ισθάνονται ανασφαλείς σε ό,τι αφορά τη θέση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ντιμετωπίζουν προβλήματα επικοινωνίας με συναδέλφους, προϊσταμένους ή υφισταμέν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την αίσθηση ότι δεν αναγνωρίζεται / εκτιμάται η εργασία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γίνονται συνεχείς αλλαγές/ ανακατατάξεις στον οργανισμό.</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1/3</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ν αγνοείτε το πρόβλημα με την ελπίδα ότι θα περάσει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νωρίστε τι μπορεί να αλλάξετε</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ώστε την ένταση των συναισθηματικών σας αντιδράσεων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7:58:16Z</dcterms:created>
  <dc:creator>ΠΑΤΡΑ 2006</dc:creator>
  <dc:description/>
  <dc:language>en-US</dc:language>
  <cp:lastModifiedBy>Γεώργιος Φραγκούλης</cp:lastModifiedBy>
  <dcterms:modified xsi:type="dcterms:W3CDTF">2022-05-02T15:17:03Z</dcterms:modified>
  <cp:revision>13</cp:revision>
  <dc:subject/>
  <dc:title>Διαφάνεια 1</dc:title>
</cp:coreProperties>
</file>